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81C-08F8-4F9A-B6B6-19AF8587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3ED-2FEB-4B02-A039-8C325085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DA4-5ADC-45A8-8246-416A59D9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CE8-9612-4407-81F4-3A29E4AD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0B8-75D4-4967-8533-10E0F8BE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8F4-7A02-4D63-90B4-747F4D83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7B8-5949-455F-8BDB-67E4C20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CF5-D49B-4AB3-A7E6-68714F09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56A-7453-4CC6-87AC-5BAF6D92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C96-8DB3-48D0-97D4-6EC0AE22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583-2113-4E9D-888F-F69DF596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5DB-8380-41C1-9770-9ED89572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0E97-8487-4185-9457-9F108EDBC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ar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ar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ar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ar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ar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r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r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ar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ar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r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Mar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ar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r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r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r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r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ar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ar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10:09Z</dcterms:created>
  <dc:creator>fabio.medessi</dc:creator>
  <dc:description/>
  <dc:language>en-US</dc:language>
  <cp:lastModifiedBy>fabio.medessi</cp:lastModifiedBy>
  <dcterms:modified xsi:type="dcterms:W3CDTF">2010-07-20T08:10:15Z</dcterms:modified>
  <cp:revision>1</cp:revision>
  <dc:subject/>
  <dc:title>Presentazione di PowerPoint</dc:title>
</cp:coreProperties>
</file>